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FB6BD-6D56-4F5F-AA50-6A24ED216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7972C-293C-4A1C-B3FC-5F101EF4FB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with all previous lessons this should follow a similar form with the agenda and session objectives set out at the beginning of the les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088A8-87CF-495E-BDBD-CFEEA4CAD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79E80-335B-41E5-8B95-33A4AC9EC2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1CC-00FE-4C6C-8809-2E9A6390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282-AE72-4CD1-B1F7-ED59C2D0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B62-E808-457B-9AF1-505723C3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337-08E1-48EF-AD67-65F277EA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4A2-9888-4913-A089-7A1463EA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724-BDCE-450E-BD32-511BCEC2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2113-3F4C-47DA-A059-B57C598C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256-B040-4115-9E6A-41C3B0A8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FB1-520C-40F5-9DA9-95B8D500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730-71FE-447B-9419-2EC93B8C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531-C989-46C0-B9E8-740A1BD7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24B-50B6-4152-869A-277FB679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97578-DF1D-4AAA-8A0D-2D7353954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Сесија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Arial"/>
              </a:rPr>
              <a:t>Преглед на ден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800" spc="-1" strike="noStrike">
                <a:solidFill>
                  <a:srgbClr val="000000"/>
                </a:solidFill>
                <a:latin typeface="Arial"/>
              </a:rPr>
              <a:t>Напредна обука за компјутерски криминал за судии и обвинител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</a:rPr>
              <a:t>На крајот од часот учениц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од активностите од претходните денови што ги разбира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Arial"/>
              </a:rPr>
              <a:t>Да посочат области каде што им треба повторно да се помине материјалот за знаењето да им биде на потребнот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Цели на сесиј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Arial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560"/>
            <a:ext cx="85136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100" spc="-1" strike="noStrike">
                <a:solidFill>
                  <a:srgbClr val="000000"/>
                </a:solidFill>
                <a:latin typeface="Arial"/>
              </a:rPr>
              <a:t>Теми на Ден 1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очеток на курсот и запознавањ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подготвување истраг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на истраг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Презентација –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меѓународна сорабо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700" spc="-1" strike="noStrike">
                <a:solidFill>
                  <a:srgbClr val="000000"/>
                </a:solidFill>
                <a:latin typeface="Arial"/>
              </a:rPr>
              <a:t>Работа во групи за откривање осомниче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400" y="4500720"/>
            <a:ext cx="342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Arial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Oliver</cp:lastModifiedBy>
  <dcterms:modified xsi:type="dcterms:W3CDTF">2013-07-04T12:06:01Z</dcterms:modified>
  <cp:revision>13</cp:revision>
  <dc:subject/>
  <dc:title>Introductory Cybercrime Training for Judges and Prosecutors</dc:title>
</cp:coreProperties>
</file>